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8D10-B1C4-4F76-BA8B-083942F5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E841-C27B-4D6A-9862-7D75942E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2F555-2762-4321-A87A-4F2AC873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4E348-94C5-4ABD-967B-2ECE4DE7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C69D3-7D94-4216-A0E9-D8B3871A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77837-5469-45E9-9C1D-CA9DDA0B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C9486-1C92-43F6-8E0C-568F57EE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6F427-2D8E-4088-9FFA-6B3EDD37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92CD1-3121-4EB0-8C2A-CD02E409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84F06-EFFC-4E79-8778-4DDEC392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641B9-3308-45E4-9C89-CABFA558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B2A90-C621-4054-8B91-F2421C29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30D2-AE37-4D7C-B7F6-CEF1E297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1EAD3-3866-4D32-8D79-9600C913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54747-BFA7-482B-A123-196A47EE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FAE77-5E77-4FC0-B1AA-8291CD7E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FAD78-3493-4110-8005-0665E52A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13468-46A3-43B3-A9A4-BD2E09C7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1F43F-0988-432A-A9A9-4FA5E098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9A799-EB67-4346-8743-B9F1A209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B3B42-8320-4810-8A0F-24F13B6C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ECDA7-7992-459D-853F-A611CFA1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23842-8D6D-4289-A01E-42D1C39F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9C41-65C5-4520-B90B-B5C97427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C401E-6F59-44E7-9213-DF8040DB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C2189-8FDD-4FC2-8D04-01CA6106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0E1F9-5337-44ED-98CE-C04A1814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B1C91-FC83-45BD-95B1-C80314E4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BE1C4-981F-4241-BDCA-70AEB42F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FD4D5-D557-4327-80CD-6ACBEB8A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17D38-3A91-45C6-ABB2-8147F6C6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B3B96-9A9A-46B8-A5FB-D2509E90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3B93A-76F3-41C4-97AA-473829AC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1BEE0-8DA6-4FB3-A0C1-FEFFD13C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D2A8-2134-46B7-90BC-F4C28D25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D8ED5-95AD-4AE5-96FB-3E0918D5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1FCC1-6E6F-43A7-9F97-030994DC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669F7-28D3-46AA-9F38-2AEF1B0C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E568C-508F-464D-89E8-6F4A8ACF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BE1F5-0B16-496B-BD4F-978B871E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51DD1-7F67-4525-8883-29EFB22A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2EC57-03D4-43F1-AA19-64B127E9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9973C-4CF8-4266-87E6-24917726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2623B-B15D-444E-BFFD-D8D465D9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436F1-68BA-4CE1-8556-FEC5552C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57D3-3D7E-4FDE-B762-A6AD35EC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A3ADA-DF1E-4AEE-8BA8-B2AC81D8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B6464-755B-4280-A232-A569ADDF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3407D-73B2-4D7A-B123-ADE862F7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B65369-A128-4E4C-B89F-73A20986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49916-6DD3-437A-943B-46110E8A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7EF247-1FA9-4619-9CF8-0E394A5C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8A8F29-F4BF-4CA8-9769-E82F4DF1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C3566B-2D07-410E-92B5-28941984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F20046-F037-4EA6-8A39-8201C539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440E1E-0761-4F87-AF0E-01FF2A99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8106-3F73-48D0-8C8B-80C4B22E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2EA93F-60D3-45AF-85A7-DE6BA1D1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0EA911-F38D-42F1-B15D-0F036846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3E915F-98C4-4DC4-9A1B-73F5F45C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B895A1-51C8-46AE-A0E8-278A3D9C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9533C8-88F1-4873-8DF6-D697C191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F200AF-E925-4EBA-B4D2-6CF7AEE7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59A015-0D74-4A76-AF6E-2967B3B9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BD43D2-A16B-47D8-B740-C03AC316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251179-DF7E-4131-BB62-C8263241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2EF5C7-201E-4303-BA05-80D444A8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8D63-A684-4583-ABD7-86D8C56B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D1BE98-1840-4633-BAE2-43723D68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F5441F-A964-4C45-AA93-3048BDF7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74E30B-B30E-4855-82A9-DC0EF869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6402F6-2FEC-40C4-B398-ECCB9E74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9A2F3C-C2B5-4588-9178-C7A78640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BB831A-5A7A-406F-89B5-E839C3C7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3B8C67-CE77-459A-84D9-6A17CD20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B911B2-106C-4A32-956C-A3971452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4CE1FA-9CC5-4F8B-B7FC-CFA39ADD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8BE20F-70CC-4F0D-8C08-55DBD3D8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6504-9098-4999-8EFD-090164FD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39201E-6E3D-4607-A241-E29D1056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AB91F4-E80E-4BB3-A2B5-23485F07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24058E-13E3-4D6A-96E3-1CFC5A71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7E0282-9879-4AC8-8CED-7A5726BC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F9AFD5-C55E-461F-A5E1-08EEDAA4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191D32-BFAE-4BF4-9971-8FCAD558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FAE620-4FB7-408A-92C1-E736A35E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A548E0-DA96-4B21-A7F6-CE9D9E0A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D13BAB-18CB-4375-AE38-E8C30546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801065-6BDA-45BC-9D82-164A7E47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AB77-3C61-4204-A3A4-0C481226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242303-4F13-4053-8B06-C079071C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B82ABD-256C-491E-BDAF-64280426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D34303-4F42-421C-A5E1-CD52A14B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463381-3D0C-473B-AE1E-A4C05521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E7243B-3996-4F8B-BD6B-EDA60176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0A957D-FAEA-4824-A4BB-67798DE7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752AD3-AB75-49FE-8B30-02835070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FD5422-985E-40DF-AC5B-02C8D547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E9178A-8BCB-442F-850E-57DAB44A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5E53E1-6AFA-4D1B-8FB3-EAE02134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7113-CCC5-4356-82FC-3481BD0A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8941C0-D13C-4852-A1C4-159DFD09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5E97B1-912B-44C7-A66C-6E0EFD3F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FEF999-E671-4808-95EB-89C7DD56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12CD59-8900-49C4-9F67-E3288F1E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37D5D7-1311-4A8E-A502-7D2709B7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95F145-FE09-4352-8B05-A43E80F4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2FCE65-EAAD-4E0A-9E6F-ED72A1C4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BF788B-1AD5-418F-8217-CB1032FE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F360EA-7180-415D-8C39-851FB133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924499-F81D-4B1D-A594-2AE83E81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F07E-6A02-4984-A085-E2E946D4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87F3-676D-4C98-9F64-F4FB1089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D59E6C-8D85-4355-B219-8A1CC695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6C7BC2-EAA7-4623-87B4-4B604C55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D189C8-A635-4EF2-BE73-BA6F589C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280301-D754-4EEF-85BF-4BFC4359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75B1A0-F500-48FE-B2A7-8484D25C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D79ABD-6242-49C9-830F-E4DCB185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14D429-5C5E-492E-AB3B-3EA602D7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E5EA99-DEDE-45E9-80C9-ACE3E758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E2136A-15A6-4408-ADB7-5C134B55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72C62E-3224-4972-B048-B2EE9051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0EF6-99B6-4A57-A662-9251932D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D01F54-52F1-48B3-B07D-42A45CD7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85C71A-4683-4012-B7D9-6795DDB0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C6802A-8F33-430A-979F-6CCE5BBF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855D3D-B238-498C-BB3B-0F793587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826723-CF39-44F6-A658-BE2C0EA2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2A87F9-586B-4516-B602-5558ED81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3E744E-BF98-4AFE-8321-82E86F95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7EB17C-2624-4746-82D3-9F56560D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759F88-214F-4166-BFFD-5185B750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87BBD0-EA9A-463B-8BC5-C5DD6CD1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16A4-3964-4A18-86AE-79736AD4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EBEED6-FA80-4AF4-A023-4B9F6826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BF80A9-458E-43BC-874F-44DE701D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4702DA-C2A2-441D-BF9B-3A9760B8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15D6DF-8F46-46A6-B7EE-C4A23CF7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2991A8-40F4-4EF0-8240-0282956C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8268BE-F5E8-4EE6-A0F2-46D114BC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630558-9570-4B3E-BE69-53B42628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706B28-48A7-4CB1-91C2-158E625D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3F8270-B528-45E3-AB9B-5052B6C3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0B85CB-0323-49EB-A767-439C9093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400C-29B6-4D5D-8360-B8F30D25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2866EF-E8DC-49AE-852E-2BB890BF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451D4B-7FA7-40B3-9B5C-454F3C39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7B9B79-CB7F-4255-AD0B-EE59DF36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AAA6E3-2B6B-477D-BDDB-1FCA9F46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6EB450-972B-4ABD-949E-986CA6F5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F21078-1377-4516-A237-A37D25FA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3D119C-AA3A-44D9-A7EE-EC3295B0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65B79B-C084-4C1C-BF4B-3B6C2123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F31306-D2BE-4006-AD92-AF05E326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869FF4-196D-4134-BCC6-E2BB01DA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0B0E-2665-4346-9CDE-0CC1BFAF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185C02-BEF4-43BF-ABBF-0F1236CC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380B73-2F0D-4B64-8BBA-850E5D5B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D03C11-18CE-43E1-88C4-1099749D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C30053-7C3A-44DF-95E1-60C693C3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5B5EBC-D7B3-4C78-BBF6-BF140F63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9553DA-B393-40D9-9F2F-74E73306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A10723-D957-43AF-A817-36004CB2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503EEC-8047-41CD-AEF3-56DF67A4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5272C3-7A9E-4F25-B735-93E96168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3C8731-8090-47FE-8D09-B98EC25E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A41E5-DC9E-42B1-84D4-3B988365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0291A1-40FC-4D80-B37E-2E53E855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FB31FE-8F9E-4635-BB04-D7206716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3FD54E-9F09-4002-82F1-71A0E74E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3524B-FF84-48BD-B959-3FE53183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61AB6-18F5-4418-A0A5-B6F28853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B87FF-0025-4C83-908D-BFC7FD12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C56B6-430A-4C68-B098-D0226578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70F0-041C-4696-8AB9-127907B4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3AB07-CE83-4A99-BB92-B52D3DB3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DA0FE-26C1-422A-B40A-FF8EA791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C6CAE-635F-4F5A-B34A-D79C8438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0D168-D566-4DCB-93C1-0537B747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13AE2-4054-4305-8757-299F34C6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D5365-6E0E-443C-A934-736BF9DF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6635B-8A12-42FF-984C-B432CD6B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15FFE-0369-4B09-9CBF-39C70D24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27B0E-F7D0-4FC8-B1B1-4B746B8C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C547E-0C52-4202-B071-B67736B3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0147-1317-48CE-A80B-058EDF28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8FD66-D5B9-462B-88B9-06531410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A6F10-9BD4-4AFC-B604-8DCDDB45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974C4-A346-4D0C-A8BE-C0A8101A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6B2DD-8DFB-48B5-A9A5-133F3BDF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9ED17-2FD3-4492-8CC3-17376B00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67091-81D6-4E6B-A093-BFD31D71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E4032-E677-4AE8-819E-14F258CE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852B4-0945-4D9B-A45F-22A6615B6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26B75-50E7-4289-97E4-CFFC49A8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C8C06-97A3-42AA-A7AA-A095D6BB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2314-0FD0-4088-A4C6-DF251645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D0E61-AB40-45C6-8532-4E740FF1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D6BE2-6BC1-4FFF-BE22-07336493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8F56C-4CFF-45BB-B05C-9410A784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3053E-677E-4C2C-8284-96772E3A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0565A-C44B-4883-A91B-DC7D1EB9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5E1F5-C182-4ABD-B116-8D82D7A3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18BFF-9420-4B49-9581-771C4836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A39C1-17C9-4F72-A637-1049991E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AC5AA-87FC-4BB7-B50D-3EEE06C7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B5864-4C39-44D1-AE08-723B0E56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FE02-FBDC-4FA3-ADD8-8BF6734F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58B33-6607-4810-9706-F5309F34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F85EE-F45C-4897-9F81-4884542F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D701E-7BBF-48A8-AB14-B0C5AC0A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7C3B7-F28D-4173-89C6-1C9B08D2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AC589-F290-4D3F-A82E-2ADC11C9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6BAD9-7E7D-4F45-9736-D4CF955E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62E67-8C9A-4C98-9CB2-1E9CF64B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4E738-97B2-46F3-9885-5387337A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5B300-2DC5-464E-B11A-EB33E8CE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1215D-29A9-4956-A438-998CFCD4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9E5A-9F98-4D96-8923-23FE2A92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42AE5-BED6-40DA-A674-1D6FE1F0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55C2A-2612-4ADE-8CAA-7F008A42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F32DD-2820-4FFA-A0AE-320CC7FB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FDA61-367C-4C6A-B53E-795BA12D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8BFD7-6CC1-4103-88B2-1460BBDF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9D886-4E00-4723-9794-053FC2B1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3004F-5C2D-4D3E-9DBA-8BBAE58E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8EFBE-6287-4594-BA9C-75144C7E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50C81-0960-420F-A6BB-43EAC54D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CB764-C556-4322-87A3-81B85996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57AA-DD27-4C59-8811-D6841473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4D892-36E6-4B4C-A30E-A6BFFC4E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BCE75-61EA-4884-A906-CA9A2D0C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C099A-A50F-45A1-AAB4-90BBCA26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020F0-C890-47A0-9562-FEF4D4CE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02BF6-08F1-4D7F-90CE-7651BB9F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04AEA-5D2B-4D9E-8182-95B5A124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BFB35-7032-4B2B-ADB4-22DADD65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46A0A-2D6A-4430-8622-70ADA2DC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0FF70-5106-4FDA-8D16-9DAF4247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5B74B-F395-4BF6-92E0-6848B0BE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2DA1-C0D4-412A-BAA6-FE25881D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CF46A-0645-4F23-99AB-5E813BF5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485F6-8264-42A3-9C78-8B1D680B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693EA-FDCD-4330-AD64-9EB2B9DA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5F273-9291-48BF-A91B-F169B47F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E7EC1-8491-46A6-A3A7-A10F41EC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A0F9E-E2BA-4EA9-A87A-6BDDEF91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C9D72-516F-456A-A524-E56C0333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D5C70-6114-4E07-8D46-D61C9E80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D17AA-0C00-4F4F-BBEF-44A5C890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A1984-79FA-49F3-93EA-08CCEA16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DBDC-DC5D-46FD-A1E9-4F1446977A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192B-219A-48B4-AF75-A30D318525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398D-2F44-4E45-9D7B-A22DA627AC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3677-2EC2-403F-AF9F-61D1A2F109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1512-E3DB-4220-950B-98015723EF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BFE3-9983-4C75-BC91-27D0E89BA6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A93F-807C-4C6A-BAA7-04418DCECE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B55A-A1D8-4056-9B5D-315E4EAB44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5645-8DF8-404B-BEA2-81CE3CE047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D420-55E7-4ADC-AE75-ED918D7D03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C26A-6115-48D7-951A-2953101B25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8383-0D82-4625-B73C-59E1640888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0EB3-D289-4BBC-A071-3BA6FDE482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11BD-9393-4A7F-AFDF-4B795FC56D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4837-A09C-462C-9EFC-80A575EB51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6829-5A95-44A3-8324-6BD08803CD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A083-2C3F-4A4F-B110-4BF7570A0E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8C76-2623-408B-A3F1-3389BE2FE3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139F-215A-4E65-92AD-2C76D87AA2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785C-0DC7-4020-A9F0-9E2D0282FC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A4EE-2466-45D4-A6D3-87FBEB2513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5494-22F7-4E36-AF68-42DE369B24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27CA-7F11-4253-8995-2EFC3E7B22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E3CF-5953-4D11-9944-3B4259E6B3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2D3D-1366-4BB8-8236-F5F7C0E7DA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EB98-DBF8-4707-85AB-4521838B0D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FD21-6401-4C43-A1F7-5FE3EBB5A4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DA99-8C9F-4F9F-81B7-A5129046C0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9504-ADCA-4D2F-87DA-8D5F4E65DE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3273-9DCE-4E88-B338-0BBF229F55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DDDB-AECB-43DB-86DC-0D67A57694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5D87-C530-45E7-B25D-CFC623F9E2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AE76-EDB8-48B8-91F5-3CEF07E543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5D1C-07A8-4B15-A2AE-455F93FBC3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CB64-F53D-4267-8C09-B2B2BA4B7C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B780-1FFE-4298-91D9-E751242019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0FC5-6FA0-4D5A-B644-71E8C4B099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7EFD-B814-4A27-A23F-42989BC257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0C64-56A4-49A7-9F78-EE525A1C86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E119-2495-4E8E-93AB-F3BAB1A183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166920" y="3014640"/>
            <a:ext cx="28101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69633" descr=""/>
          <p:cNvPicPr/>
          <p:nvPr/>
        </p:nvPicPr>
        <p:blipFill>
          <a:blip r:embed="rId1"/>
          <a:stretch/>
        </p:blipFill>
        <p:spPr>
          <a:xfrm>
            <a:off x="795240" y="1028880"/>
            <a:ext cx="7553520" cy="48006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619308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1042920" y="1628640"/>
            <a:ext cx="4824360" cy="9367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1042920" y="2637000"/>
            <a:ext cx="4824360" cy="9363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971640" y="3645000"/>
            <a:ext cx="4824360" cy="5047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900000" y="4221000"/>
            <a:ext cx="4824360" cy="5050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7"/>
          <a:stretch/>
        </p:blipFill>
        <p:spPr>
          <a:xfrm>
            <a:off x="826920" y="4797360"/>
            <a:ext cx="4824720" cy="5047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8"/>
          <a:stretch/>
        </p:blipFill>
        <p:spPr>
          <a:xfrm>
            <a:off x="684360" y="5329080"/>
            <a:ext cx="66243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图片 68609" descr=""/>
          <p:cNvPicPr/>
          <p:nvPr/>
        </p:nvPicPr>
        <p:blipFill>
          <a:blip r:embed="rId1"/>
          <a:stretch/>
        </p:blipFill>
        <p:spPr>
          <a:xfrm>
            <a:off x="571680" y="1847880"/>
            <a:ext cx="8001000" cy="31622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2"/>
          <a:stretch/>
        </p:blipFill>
        <p:spPr>
          <a:xfrm>
            <a:off x="611280" y="1787400"/>
            <a:ext cx="79214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1440" y="841320"/>
            <a:ext cx="8601120" cy="54673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227640" y="3860640"/>
            <a:ext cx="576360" cy="8636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124000" y="5445000"/>
            <a:ext cx="2016360" cy="8636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003640" y="5445000"/>
            <a:ext cx="28814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595440" y="773280"/>
            <a:ext cx="7953120" cy="58957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6084720" y="7650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5651640" y="155736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1835280" y="335772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5"/>
          <a:stretch/>
        </p:blipFill>
        <p:spPr>
          <a:xfrm>
            <a:off x="3995640" y="33577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6"/>
          <a:stretch/>
        </p:blipFill>
        <p:spPr>
          <a:xfrm>
            <a:off x="1619280" y="5013360"/>
            <a:ext cx="129708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7"/>
          <a:stretch/>
        </p:blipFill>
        <p:spPr>
          <a:xfrm>
            <a:off x="6227640" y="6093000"/>
            <a:ext cx="1297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752400" y="1766880"/>
            <a:ext cx="7639200" cy="33242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1042920" y="3745080"/>
            <a:ext cx="4249800" cy="493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1042920" y="4292640"/>
            <a:ext cx="4249800" cy="4935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5580000" y="3471840"/>
            <a:ext cx="2952720" cy="493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5651640" y="4076640"/>
            <a:ext cx="2952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7352" descr=""/>
          <p:cNvPicPr/>
          <p:nvPr/>
        </p:nvPicPr>
        <p:blipFill>
          <a:blip r:embed="rId1"/>
          <a:stretch/>
        </p:blipFill>
        <p:spPr>
          <a:xfrm>
            <a:off x="814320" y="1819440"/>
            <a:ext cx="7515360" cy="32191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826920" y="2997360"/>
            <a:ext cx="3384720" cy="9363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755640" y="4005360"/>
            <a:ext cx="3384720" cy="9363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5148360" y="2997360"/>
            <a:ext cx="3384360" cy="9363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5076720" y="4005360"/>
            <a:ext cx="33847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266760" y="800280"/>
            <a:ext cx="8610480" cy="52578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1403280" y="3213000"/>
            <a:ext cx="6697800" cy="493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1332000" y="3789360"/>
            <a:ext cx="6697440" cy="4935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1332000" y="4292640"/>
            <a:ext cx="6697440" cy="493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1332000" y="4869000"/>
            <a:ext cx="669744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6"/>
          <a:stretch/>
        </p:blipFill>
        <p:spPr>
          <a:xfrm>
            <a:off x="1332000" y="5445000"/>
            <a:ext cx="66974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5300" descr=""/>
          <p:cNvPicPr/>
          <p:nvPr/>
        </p:nvPicPr>
        <p:blipFill>
          <a:blip r:embed="rId1"/>
          <a:stretch/>
        </p:blipFill>
        <p:spPr>
          <a:xfrm>
            <a:off x="547560" y="1166760"/>
            <a:ext cx="8048880" cy="4524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1000080" y="3386160"/>
            <a:ext cx="4896000" cy="493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1042920" y="4005360"/>
            <a:ext cx="4896000" cy="4935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1042920" y="4508640"/>
            <a:ext cx="4896000" cy="493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1042920" y="5084640"/>
            <a:ext cx="4896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4276" descr=""/>
          <p:cNvPicPr/>
          <p:nvPr/>
        </p:nvPicPr>
        <p:blipFill>
          <a:blip r:embed="rId1"/>
          <a:stretch/>
        </p:blipFill>
        <p:spPr>
          <a:xfrm>
            <a:off x="361800" y="1038240"/>
            <a:ext cx="8420400" cy="4781520"/>
          </a:xfrm>
          <a:prstGeom prst="rect">
            <a:avLst/>
          </a:prstGeom>
          <a:ln w="0">
            <a:noFill/>
          </a:ln>
        </p:spPr>
      </p:pic>
      <p:pic>
        <p:nvPicPr>
          <p:cNvPr id="955" name="图片 54277" descr=""/>
          <p:cNvPicPr/>
          <p:nvPr/>
        </p:nvPicPr>
        <p:blipFill>
          <a:blip r:embed="rId2"/>
          <a:stretch/>
        </p:blipFill>
        <p:spPr>
          <a:xfrm>
            <a:off x="2517840" y="1752480"/>
            <a:ext cx="4933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2231" descr=""/>
          <p:cNvPicPr/>
          <p:nvPr/>
        </p:nvPicPr>
        <p:blipFill>
          <a:blip r:embed="rId1"/>
          <a:stretch/>
        </p:blipFill>
        <p:spPr>
          <a:xfrm>
            <a:off x="247680" y="712800"/>
            <a:ext cx="864864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11:5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